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6BB-FF26-4167-8603-AF333EB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D0E-36D3-42FD-ABA6-F463DAF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998-4BA0-4EBB-8AC9-FBBFDACF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033-17DF-4D80-9633-38192D43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1C0-439F-4A1E-AEA7-259BC8DF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42D-5DED-4E7E-8F94-C19AAC8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AA7-2594-47C1-9808-7FEA57C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526-924C-4E72-89CB-ECD279C2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EA9-F802-41A5-8522-CDA42A4D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95D-CAAD-484E-9DC6-0A0F4A4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DE2-E33B-4826-A07B-4D20F60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323-23B8-404B-BD6A-20210AC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72F-1CE4-4948-B79D-74E349B62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edia1.shmoop.com/media/images/original/roosevelt-rough-rid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10080" y="121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 1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ba is…well…almost f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latt Amend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aties with nations who could dominat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llow U.S navy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trade debts low to avoid confl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 allowed to intervene to support Cuban indepen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uba finally repealed it in 193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tle of Manila B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Forces in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ban Rebellion Beg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pen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se M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ublic of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68—Cuba launched rebellion for independence from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ba became economically tied with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95—Cuba launches another rebellion after economy t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cessfully take Eastern Cuba and declared it independent of Sp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 Supports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 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Wey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ncentration ca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States became convinced to be involved by sensationalist news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in sent 200,000 troops and even had Cuban rebels put into holding camps so that they would not aid or continue the rebell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s for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la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William McKin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member the Main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ng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bans rioted in protest of remaining a Spanish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McKinley sent the US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protect American living in Hav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xploded and McKinley was pressured to go to war with Sp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in declared war on U.S. 1898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tle of Manila B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ore George Dew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ila Bay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ific Oc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early May 1898, an American naval squadron, led by Commodore George Dewey, destroyed the Spanish fleet in Manila 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.S. hoped to keep Spain from sending ships to help in Cu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Forces in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e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gh R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odore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ttle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.S. landed troops in Cuba near where the Spanish were protecting their ships. American troops attacked and took a village near Santiago. The Spanish retreated and their ships were destroyed by U.S. warshi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…what just happened?...in a nutshell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ba wanted independence from Sp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gets invol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ba is 90 miles from Flor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ed European powers out of Western Hemi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ship, th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explodes—blamed on Spain—U.S and Spain now at w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anish colony, the Philippines, is taken by the U.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enters Cuba, battles ensue, Spain retreats from Cu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nnexation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lbert Beveridge, why is annexation of the Philippines 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no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urse of a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William Jennings Bryan’s two main criticisms of imperial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943280"/>
            <a:ext cx="59151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fbcdn-profile-a.akamaihd.net/hprofile-ak-xaf1/t1.0-1/c122.38.475.475/s160x160/198072_102196253199508_7277457_n.jpg"/>
          <p:cNvPicPr/>
          <p:nvPr/>
        </p:nvPicPr>
        <p:blipFill>
          <a:blip r:embed="rId2"/>
          <a:stretch/>
        </p:blipFill>
        <p:spPr>
          <a:xfrm>
            <a:off x="236232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pbs.org/godinamerica/art/pwilliam-jennings-bryan.jpg"/>
          <p:cNvPicPr/>
          <p:nvPr/>
        </p:nvPicPr>
        <p:blipFill>
          <a:blip r:embed="rId3"/>
          <a:stretch/>
        </p:blipFill>
        <p:spPr>
          <a:xfrm>
            <a:off x="4952880" y="1371600"/>
            <a:ext cx="1879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y of Paris 189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icially ended the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ba granted indepen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 gained Puerto Rico and Gu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 paid $20 million for the Philipp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kahimyang.info/resources/cambon-sign-treaty-of-paris.jpg"/>
          <p:cNvPicPr/>
          <p:nvPr/>
        </p:nvPicPr>
        <p:blipFill>
          <a:blip r:embed="rId2"/>
          <a:stretch/>
        </p:blipFill>
        <p:spPr>
          <a:xfrm>
            <a:off x="2514600" y="4038480"/>
            <a:ext cx="429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0:25:58Z</dcterms:created>
  <dc:creator>loftonm</dc:creator>
  <dc:description/>
  <dc:language>en-US</dc:language>
  <cp:lastModifiedBy>Grace</cp:lastModifiedBy>
  <dcterms:modified xsi:type="dcterms:W3CDTF">2015-10-25T02:49:41Z</dcterms:modified>
  <cp:revision>72</cp:revision>
  <dc:subject/>
  <dc:title>The Spanish-American War</dc:title>
</cp:coreProperties>
</file>